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FBC-B43D-4F0F-AA70-9C92E218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ethods we are using in this workshop is small group work on case studies that involve different aspects of monitoring and evaluation and national TB Program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group activities that we will work on in the next few days in order to enhance understanding of monitoring and eval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we will work in small groups to develop logic frameworks to guide monitoring and evaluation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, we will work on an activity to build skills in indicator selection, using the Compendium of Indic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, we’ll draft M&amp;E plans based on specific country contexts and priori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we’ll think about what’s needed to implement an M&amp;E plan with a small group activity aimed at identifying components of a strong M&amp;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443D-9248-4B65-8707-618AB7A6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44FB-7005-45FB-ABA4-7E0E52A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46AA-0F78-4603-A596-4001FC28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0923-D122-4EDC-A970-B1386E2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C0B0-7072-4045-AAF9-E814B016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3AE8-DFAD-4D9A-AA4D-264BE2A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F1F7-C88E-41E3-B9DE-F2850A99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A7A8-3C36-4F9D-9A08-E64B7037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8F17-307B-4238-9D10-7706E4E9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93F4-83AE-4801-A8ED-597DDD69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2776-43E1-4453-B4FC-58D4195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F0CD-33CB-4FF5-A7B4-B38EA8A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E1A7-DE68-47BC-90BE-21ABD7F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4A23-088D-4BBA-81F2-BF4B1C99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FCE1-FD67-46BC-A899-35E35701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C4A0-8859-4EE8-BFC7-9FAC0096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497B-5CEF-4D17-81EA-40071677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70D91-C06E-45C3-8E3D-C79C12D0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8B2F-72DF-4E78-B11A-8F5591DD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A665-DBF2-4B20-B3A8-B9654682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53CA-BB74-4AFC-A1A8-C5717ABA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E7D2-767A-44C0-AB71-DF2F853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DFA1-0496-4E56-9CE7-041F6FE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5CA9-BD58-4A8C-93C3-A485C52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046-8804-4EDA-BB7C-9D8DE0412D2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4ED-DEE4-4EBF-B08D-DC22B9C4A13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ase Study Activiti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Putting concepts into 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velopment of a Logic Framework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ndicator-Selection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&amp;E Pla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omponents of a Strong M&amp;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of a Logic Framework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domly assigne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y describes a hypothetical but realistic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ill use the new terms and concepts to create a logic framework and present back to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dicator Selection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&amp;E Plan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mponents of a Strong M&amp;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velopment of a Logic Frame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ndicator Selection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domly assigne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y describes a hypothetical but realistic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ill use the concepts learned yesterday to develop a framework, then use the compendium and other materials  to select appropriate indicators and data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ill report back and discuss in the large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&amp;E Plan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mponents of a Strong M&amp;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rd Case Study/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velopment of a Logic Frame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dicator Selection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&amp;E Plan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ry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should select a component of their program and apply logic framework, indicator selection and M&amp;E plan methods to develop a strong M&amp;E plan to take home as a first step to implementing an M&amp;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ill report back and solicit feedback from the large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mponents of a Strong M&amp;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th Case Study/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velopment of a Logic Frame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dicator Selection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&amp;E Plan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omponents of a Strong M&amp;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ry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M&amp;E system checklist, countries will identify two gaps and two strengths of their own M&amp;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ina Population Center</cp:lastModifiedBy>
  <dcterms:modified xsi:type="dcterms:W3CDTF">2006-11-08T21:11:18Z</dcterms:modified>
  <cp:revision>3</cp:revision>
  <dc:subject/>
  <dc:title>PowerPoint Presentation</dc:title>
</cp:coreProperties>
</file>